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CAF11-082D-4C1B-A970-7338D62BE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AE0FC-871B-4253-BF0C-085E646CF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A37FF-B33F-4920-8A0C-077C59312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E51AD-3CE1-4EF2-BCC2-43ED6CFBC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DF33B9-E435-4BFA-BDA8-53541D9F98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D9552-AA6C-4687-94FF-248614CBB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5D165-B921-4210-9B42-22DC55823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3091F-8B89-4664-86BD-25BC55359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0A7D7-A64A-460D-B887-1FD1EE22D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DA3D8-2327-425E-BB76-D1B9C1890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71A1D-2985-4CC1-B0C8-18CFCDFE6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66395-ABD9-434C-9263-5A7E92D3A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5D03A-9E77-4B52-88E0-7DB26B6A3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90BB3-D9A8-4BD6-8763-18628F2E3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57D24-3B92-4B23-A10C-077F9EC9B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09B503-8923-4E74-AA67-7FBB311F8B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4CA18-5508-4ADB-AF2F-FE8203F95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1371C-F652-4FE8-8CCB-0C74C089D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17F1E-17B4-47DA-B32D-575C6DAB2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DDB23-20FA-49E8-A75C-A2749CB35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FC1B6-10F2-455D-A515-EFB387654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A59E1-6155-4EC4-9ED3-206C55DCA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1F6CD-95A2-4D55-8D29-0FF8B5A92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A73E6-8133-4E62-849F-6D833B175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5911-7AAC-4977-BFA1-B3DBD4E5696E}"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502D8-F454-4D44-9FEB-E0BED628BED8}"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Mouse Squad\Steps to Print Network Page.doc" TargetMode="External"/><Relationship Id="rId2" Type="http://schemas.openxmlformats.org/officeDocument/2006/relationships/hyperlink" Target="..\Mouse Squad\Steps To Add Printer.doc"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Mouse Squad/Steps to Print Network Page.doc" TargetMode="External"/><Relationship Id="rId2" Type="http://schemas.openxmlformats.org/officeDocument/2006/relationships/hyperlink" Target="../Mouse Squad/Steps To Add Printer.doc"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iSquad</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Readying Instructional Environment </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Printer Set Up PC</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9" name=""/>
          <p:cNvSpPr/>
          <p:nvPr/>
        </p:nvSpPr>
        <p:spPr>
          <a:xfrm>
            <a:off x="457200" y="2438280"/>
            <a:ext cx="8381880" cy="2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are some issues you faced when practicing printer set-up? </a:t>
            </a:r>
            <a:endParaRPr b="0" lang="en-US" sz="3200" spc="-1" strike="noStrike">
              <a:solidFill>
                <a:srgbClr val="21216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did you handle these issues?</a:t>
            </a:r>
            <a:endParaRPr b="0" lang="en-US" sz="3200" spc="-1" strike="noStrike">
              <a:solidFill>
                <a:srgbClr val="212164"/>
              </a:solidFill>
              <a:latin typeface="Arial"/>
            </a:endParaRPr>
          </a:p>
        </p:txBody>
      </p:sp>
      <p:sp>
        <p:nvSpPr>
          <p:cNvPr id="111"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
          <p:cNvSpPr/>
          <p:nvPr/>
        </p:nvSpPr>
        <p:spPr>
          <a:xfrm>
            <a:off x="457200" y="2438280"/>
            <a:ext cx="8381880" cy="2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did you do?</a:t>
            </a:r>
            <a:endParaRPr b="0" lang="en-US" sz="3200" spc="-1" strike="noStrike">
              <a:solidFill>
                <a:srgbClr val="212164"/>
              </a:solidFill>
              <a:latin typeface="Arial"/>
            </a:endParaRPr>
          </a:p>
        </p:txBody>
      </p:sp>
      <p:sp>
        <p:nvSpPr>
          <p:cNvPr id="114"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5"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6"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7"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nswers</a:t>
            </a: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3430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8"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How can I obtain the information necessary for effective printer set up?</a:t>
            </a:r>
            <a:br>
              <a:rPr sz="3200"/>
            </a:br>
            <a:r>
              <a:rPr b="0" i="1" lang="en-US" sz="3200" spc="-1" strike="noStrike">
                <a:solidFill>
                  <a:srgbClr val="212164"/>
                </a:solidFill>
                <a:latin typeface="Arial"/>
              </a:rPr>
              <a:t>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are the necessary steps I need to follow to set up a printer?</a:t>
            </a:r>
            <a:br>
              <a:rPr sz="3200"/>
            </a:br>
            <a:br>
              <a:rPr sz="3200"/>
            </a:br>
            <a:r>
              <a:rPr b="0" lang="en-US" sz="3200" spc="-1" strike="noStrike">
                <a:solidFill>
                  <a:srgbClr val="212164"/>
                </a:solidFill>
                <a:latin typeface="Arial"/>
              </a:rPr>
              <a:t> </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Laptop users may experience difficulty when it come to setting up printers.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This session focuses on the necessary steps you need to follow in order to successfully set up your computer to network enabled printers.</a:t>
            </a:r>
            <a:br>
              <a:rPr sz="3200"/>
            </a:br>
            <a:r>
              <a:rPr b="0" i="1" lang="en-US" sz="3200" spc="-1" strike="noStrike" u="sng">
                <a:solidFill>
                  <a:srgbClr val="212164"/>
                </a:solidFill>
                <a:uFillTx/>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Step 1:  </a:t>
            </a:r>
            <a:r>
              <a:rPr b="0" lang="en-US" sz="2400" spc="-1" strike="noStrike" u="sng">
                <a:solidFill>
                  <a:srgbClr val="995421"/>
                </a:solidFill>
                <a:uFillTx/>
                <a:latin typeface="Arial"/>
                <a:hlinkClick r:id="rId1"/>
              </a:rPr>
              <a:t>Print a Network page</a:t>
            </a:r>
            <a:r>
              <a:rPr b="0" lang="en-US" sz="2400" spc="-1" strike="noStrike" u="sng">
                <a:solidFill>
                  <a:srgbClr val="212164"/>
                </a:solidFill>
                <a:uFillTx/>
                <a:latin typeface="Arial"/>
              </a:rPr>
              <a:t> from the printer you wish to connect to your computer.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Step 2:  Log on as Admin to the computer.  The password is protected discretion is advised when logging on.</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Step 3:  Follow the </a:t>
            </a:r>
            <a:r>
              <a:rPr b="0" lang="en-US" sz="2400" spc="-1" strike="noStrike" u="sng">
                <a:solidFill>
                  <a:srgbClr val="995421"/>
                </a:solidFill>
                <a:uFillTx/>
                <a:latin typeface="Arial"/>
                <a:hlinkClick r:id="rId2"/>
              </a:rPr>
              <a:t>Steps to Set Up the Printer.</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Step4:  Open word document and print a test page that includes the laptop users name, initials of the Mouse Squad member set up printer, and room number of the printer they installed.</a:t>
            </a:r>
            <a:endParaRPr b="0" lang="en-US" sz="24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Now it is your turn to try. Can someone volunteer to print a network page from the printer?  What is the host name? </a:t>
            </a:r>
            <a:endParaRPr b="0" lang="en-US" sz="32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Now I will log you on so you can get started setting up the printer.</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Take the next 30 minutes to install the printer in this room to your laptop. If you successfully set up one laptop move to the next one and install the printer.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In order to keep track of laptops that are done, please leave the finished laptop on your desk with the test page on top of it.</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Step 1:  </a:t>
            </a:r>
            <a:r>
              <a:rPr b="0" lang="en-US" sz="2800" spc="-1" strike="noStrike" u="sng">
                <a:solidFill>
                  <a:srgbClr val="995421"/>
                </a:solidFill>
                <a:uFillTx/>
                <a:latin typeface="Arial"/>
                <a:hlinkClick r:id="rId1"/>
              </a:rPr>
              <a:t>Print a Network sheet </a:t>
            </a:r>
            <a:r>
              <a:rPr b="0" lang="en-US" sz="2800" spc="-1" strike="noStrike" u="sng">
                <a:solidFill>
                  <a:srgbClr val="212164"/>
                </a:solidFill>
                <a:uFillTx/>
                <a:latin typeface="Arial"/>
              </a:rPr>
              <a:t>from the printer you wish to connect to your computer.  The following steps will help you do this.</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Step 2:  Have the teacher log on.  </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Step 3:  Follow the </a:t>
            </a:r>
            <a:r>
              <a:rPr b="0" lang="en-US" sz="2800" spc="-1" strike="noStrike" u="sng">
                <a:solidFill>
                  <a:srgbClr val="995421"/>
                </a:solidFill>
                <a:uFillTx/>
                <a:latin typeface="Arial"/>
                <a:hlinkClick r:id="rId2"/>
              </a:rPr>
              <a:t>Steps to Set Up the Printer</a:t>
            </a:r>
            <a:r>
              <a:rPr b="0" lang="en-US" sz="2800" spc="-1" strike="noStrike" u="sng">
                <a:solidFill>
                  <a:srgbClr val="212164"/>
                </a:solidFill>
                <a:uFillTx/>
                <a:latin typeface="Arial"/>
              </a:rPr>
              <a:t>.</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Step4:  Open word and print a test page with the laptop users name, initials of the Mouse Squad member, and room number of the printer they installed.</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YCDOE</cp:lastModifiedBy>
  <dcterms:modified xsi:type="dcterms:W3CDTF">2007-01-30T17:20:39Z</dcterms:modified>
  <cp:revision>7</cp:revision>
  <dc:subject/>
  <dc:title>Workshop Title</dc:title>
</cp:coreProperties>
</file>